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42E3-116B-49DD-9F79-6FDE17870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DC1C-588E-4039-9577-D696D6F4B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55B5-41B0-4B81-9AF6-B59D308A3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A020-10E2-4262-AB5F-5308E1D43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2C8E-77FD-4D85-9DCD-C8D486239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AA8D-8076-4E5A-8DAC-532A9F95C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10CD-76AC-4A04-876E-1CD3B7A3F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6B9D-D030-43D4-A817-A974522A9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3984-68D9-4F0B-A73A-A0FB1F0B2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C031-599A-4C20-A959-A9E835AB8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A4C0-5AA2-4D41-A41D-98EF83FBB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C37E-9351-4FF3-996D-41FB8B7A7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EC2A-80B7-42C4-B082-FA80D2E5D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E7BC-8639-44BA-829A-F58F58558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E7B1-0F51-448E-8EC9-FB6C0972C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AD42-69F4-4EBE-BE2A-4E833E322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6497-17BB-4EA2-BF68-6F7CFBEFF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3286-043C-4A53-A90B-1BC803754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1BB3-975E-46CB-A278-2A71ED14F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BFE9-CA97-41D7-B6D7-6A10E6D32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383F-EDA2-42E4-B204-CA8C56E63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E582-22A3-43D6-A51E-C568D40D2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330E-C9B7-4CEF-81D4-D14372B48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9306-F0DC-41E9-824B-BBBB33AC0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2EAC-D45B-4F22-9FFF-827A295ED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2E30-3DB8-410E-B771-9E3C067BA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112F-8B86-4C19-9E1C-B04163B4E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4DBE-6CA7-4D57-B20B-4CB66C8DE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5120-504B-4DA8-971A-40641B51A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4E2B-4937-4C79-893D-9A87725DD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DBD9-9BC8-4218-BEE9-1519C7DCB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F7CF-72EB-486C-B8DE-95BF7E4D6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2EE4-FD6F-4E57-A3A9-C7BBDBE93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1BBB-5D30-494A-8250-741C846C0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29FD-8F0D-4653-95E9-AB1C24DE6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2AA6-7CF9-40A6-8EF6-7CC048DD8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B507-E9DD-4627-BE3C-BC90411C1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48B4-C971-4596-8290-B1E855FBC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C51A-F3AA-44C2-900B-10682B38F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E628-47A3-47B5-9355-EFEAC7570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4E42-6667-4E1C-AF04-2E6942E70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1B14-6E2F-4575-9589-4F9E2808A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84360" y="2514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268720"/>
            <a:ext cx="7772400" cy="325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It’s a pity that things weren’t arranged so that an empty head, like an empty stomach,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ould not let us rest until we put something in it.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eorgia"/>
              </a:rPr>
              <a:t>—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Red Gray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6" name="Picture 3" descr="Library"/>
          <p:cNvPicPr/>
          <p:nvPr/>
        </p:nvPicPr>
        <p:blipFill>
          <a:blip r:embed="rId1"/>
          <a:stretch/>
        </p:blipFill>
        <p:spPr>
          <a:xfrm>
            <a:off x="685800" y="852480"/>
            <a:ext cx="7772400" cy="516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e whole future of civilization depends upon what is read to children before they can read to themselves.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John Jay Chapman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9" name="Picture 4" descr="michelle-obama-2008-norfolk-va2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63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Oh, magic hour, when a child first knows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he can read printed words!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— </a:t>
            </a:r>
            <a:r>
              <a:rPr b="0" i="1" lang="en-US" sz="2600" spc="-1" strike="noStrike">
                <a:solidFill>
                  <a:srgbClr val="ffffff"/>
                </a:solidFill>
                <a:latin typeface="Georgia"/>
              </a:rPr>
              <a:t>A Tree Grows in Brooklyn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, 1943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2" name="Picture 3" descr="girl_with-glasses"/>
          <p:cNvPicPr/>
          <p:nvPr/>
        </p:nvPicPr>
        <p:blipFill>
          <a:blip r:embed="rId1"/>
          <a:stretch/>
        </p:blipFill>
        <p:spPr>
          <a:xfrm>
            <a:off x="23623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s a little girl, my greatest joy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as to lose myself in a book…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Arianna Stassinopoulos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5" name="Picture 3" descr="IDR_div_A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hen I was about eight, I decided that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e most wonderful thing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next to a human being, was a book.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Margaret Walker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8" name="Picture 3" descr="IDR_div_D"/>
          <p:cNvPicPr/>
          <p:nvPr/>
        </p:nvPicPr>
        <p:blipFill>
          <a:blip r:embed="rId1"/>
          <a:stretch/>
        </p:blipFill>
        <p:spPr>
          <a:xfrm>
            <a:off x="23623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My education was the liberty I had to read indiscriminately and all the tim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ith my eyes hanging out.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Dylan Thomas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070000"/>
            <a:ext cx="7772400" cy="34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hildren should spend less time completing workbooks and skill sheets..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ere is little evidence that these activities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re related to reading achievement.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Becoming a Nation of Readers: The Report of the Commission on Reading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Richard C. Anderson, Elfrieda H. Hiebert, Judith A. Scott, and Ian A.G. Wilkinson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1" name="Picture 3" descr="Head_sho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558800"/>
            <a:ext cx="7772400" cy="405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…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e amount of time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tudents spent in independent reading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as the best predictor of reading achievement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nd also the best predictor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of the amount of gain in reading achievement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made by students between second and fifth grade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eorgia"/>
              </a:rPr>
              <a:t>—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Anderson, Wilson, and Fielding (1988) 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I would rather be a poor man in a garret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ith plenty of books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an a king who did not love reading.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Thomas B. Macaulay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5" name="Picture 3" descr="under_the_chair"/>
          <p:cNvPicPr/>
          <p:nvPr/>
        </p:nvPicPr>
        <p:blipFill>
          <a:blip r:embed="rId1"/>
          <a:stretch/>
        </p:blipFill>
        <p:spPr>
          <a:xfrm>
            <a:off x="533520" y="674640"/>
            <a:ext cx="8153280" cy="542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 man is known by the books he reads.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Ralph Waldo Emerson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Obama young book"/>
          <p:cNvPicPr/>
          <p:nvPr/>
        </p:nvPicPr>
        <p:blipFill>
          <a:blip r:embed="rId1"/>
          <a:srcRect l="17152" t="0" r="37837" b="0"/>
          <a:stretch/>
        </p:blipFill>
        <p:spPr>
          <a:xfrm>
            <a:off x="1755720" y="0"/>
            <a:ext cx="2874960" cy="4191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Obama read"/>
          <p:cNvPicPr/>
          <p:nvPr/>
        </p:nvPicPr>
        <p:blipFill>
          <a:blip r:embed="rId2"/>
          <a:srcRect l="7470" t="20001" r="10506" b="4399"/>
          <a:stretch/>
        </p:blipFill>
        <p:spPr>
          <a:xfrm>
            <a:off x="5013360" y="2590920"/>
            <a:ext cx="34290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ere are many little ways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o enlarge your child's world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Love of books is the best of all.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— Jacqueline Kennedy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81" name="Picture 3" descr="girl_on_her_back"/>
          <p:cNvPicPr/>
          <p:nvPr/>
        </p:nvPicPr>
        <p:blipFill>
          <a:blip r:embed="rId1"/>
          <a:stretch/>
        </p:blipFill>
        <p:spPr>
          <a:xfrm>
            <a:off x="2895480" y="762120"/>
            <a:ext cx="349596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e pleasure of all reading is doubled when one lives with another who shares the same books.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Katherine Mansfield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obama reading"/>
          <p:cNvPicPr/>
          <p:nvPr/>
        </p:nvPicPr>
        <p:blipFill>
          <a:blip r:embed="rId1"/>
          <a:stretch/>
        </p:blipFill>
        <p:spPr>
          <a:xfrm>
            <a:off x="2284560" y="295200"/>
            <a:ext cx="4572000" cy="610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e real purpose of books is to trap the mind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into doing its own thinking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Christopher Morley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7" name="On My Way Home.mp3" descr=""/>
          <p:cNvPicPr/>
          <p:nvPr/>
        </p:nvPicPr>
        <p:blipFill>
          <a:blip r:embed="rId1"/>
          <a:stretch/>
        </p:blipFill>
        <p:spPr>
          <a:xfrm>
            <a:off x="0" y="635004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nce each child reads only about six hundred books in the course of childhood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each book should nourish them in some way —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ith new ideas, insight, humor, or vocabulary.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Joan Aiken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hat a school thinks about its library is a measure of what it thinks about education.    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Harold Howe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hen I discovered libraries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it was like having Christmas every day.   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Jean Fritz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IDR_div_B"/>
          <p:cNvPicPr/>
          <p:nvPr/>
        </p:nvPicPr>
        <p:blipFill>
          <a:blip r:embed="rId1"/>
          <a:srcRect l="56260" t="14062" r="0" b="0"/>
          <a:stretch/>
        </p:blipFill>
        <p:spPr>
          <a:xfrm>
            <a:off x="2239920" y="304920"/>
            <a:ext cx="4770360" cy="62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ny book that helps a child to form a habit of reading, to make reading one of his deep and continuing needs, is good for him.     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Maya Angelou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90" name="Picture 3" descr="boy_with_mystery"/>
          <p:cNvPicPr/>
          <p:nvPr/>
        </p:nvPicPr>
        <p:blipFill>
          <a:blip r:embed="rId1"/>
          <a:stretch/>
        </p:blipFill>
        <p:spPr>
          <a:xfrm>
            <a:off x="2438280" y="304920"/>
            <a:ext cx="4165560" cy="62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It is not enough to simply teach children to read;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e have to give them something worth reading.  Something that will stretch their imaginations — something that will help them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make sense of their own lives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nd encourage them to reach out toward people whose lives are quite different from their own.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Katherine Patterson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rusting children and books is a revolutionary act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Books are, after all, dangerous stuff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Leave a child alone with a book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nd you don’t know what might happen.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Susan Ohanian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94" name="Picture 5" descr="4 girls"/>
          <p:cNvPicPr/>
          <p:nvPr/>
        </p:nvPicPr>
        <p:blipFill>
          <a:blip r:embed="rId1"/>
          <a:stretch/>
        </p:blipFill>
        <p:spPr>
          <a:xfrm>
            <a:off x="254160" y="382680"/>
            <a:ext cx="8661240" cy="609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I cannot live without books.       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— Thomas Jefferson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9" name="Picture 3" descr="Jerome+pals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30477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Books are the carriers of civilization.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ithout books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history is silent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literature dumb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cience crippled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ought and speculation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t a standstill.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— Barbara W. Tuchman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56" nodeType="after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36232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It interrupts any doing, any ordinary activities,      no matter what they happen to be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ll thinking demands a </a:t>
            </a:r>
            <a:r>
              <a:rPr b="0" i="1" lang="en-US" sz="2600" spc="-1" strike="noStrike">
                <a:solidFill>
                  <a:srgbClr val="ffffff"/>
                </a:solidFill>
                <a:latin typeface="Georgia"/>
              </a:rPr>
              <a:t>stop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-and-think.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eorgia"/>
              </a:rPr>
              <a:t>—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Hannah Arend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IDR_div_F"/>
          <p:cNvPicPr/>
          <p:nvPr/>
        </p:nvPicPr>
        <p:blipFill>
          <a:blip r:embed="rId1"/>
          <a:stretch/>
        </p:blipFill>
        <p:spPr>
          <a:xfrm>
            <a:off x="279360" y="534960"/>
            <a:ext cx="8610480" cy="57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It is during independent reading that readers consolidate the skills and strategies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ey have been taught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nd come to own them.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eorgia"/>
              </a:rPr>
              <a:t>—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Richard Allington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from_above"/>
          <p:cNvPicPr/>
          <p:nvPr/>
        </p:nvPicPr>
        <p:blipFill>
          <a:blip r:embed="rId1"/>
          <a:stretch/>
        </p:blipFill>
        <p:spPr>
          <a:xfrm>
            <a:off x="2209680" y="228600"/>
            <a:ext cx="421668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Kids not only need to read a lot but they need lots of books they can read right at their fingertips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ey also need access to books that entice them, attract them to reading. 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eorgia"/>
              </a:rPr>
              <a:t>—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Richard L. Allington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3:27:45Z</dcterms:created>
  <dc:creator>Linda Rourke</dc:creator>
  <dc:description/>
  <dc:language>en-US</dc:language>
  <cp:lastModifiedBy>Linda Rourke</cp:lastModifiedBy>
  <dcterms:modified xsi:type="dcterms:W3CDTF">2011-06-16T22:46:53Z</dcterms:modified>
  <cp:revision>11</cp:revision>
  <dc:subject/>
  <dc:title>It’s a pity that things weren’t arranged so that an empty head, like an empty stomach, would not let us rest until we put something in it.   — Red Gray  </dc:title>
</cp:coreProperties>
</file>